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77600" y="767880"/>
            <a:ext cx="55436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6339-2CE0-4EEE-877E-CB7EB243040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600B-6902-4034-A15C-151034CC019D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0735-BF1A-4153-B9B0-306701751BA1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D4CD-C7BE-4225-A3DA-870CD0727B47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22A0-497E-4749-BACF-BF411EADA874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A87-A65F-4B45-8694-58AE654B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AFF-B7AE-4399-8F92-9D2C6CBF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B3B-640B-4834-99AD-D77F9DFA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7C3-69E9-44FD-87CD-289885B6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B628-EE07-4CD9-AF89-753E5C27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092F-76B0-4334-A62C-7A76080E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1015-2309-408D-873C-C1E4BFC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04DA-F885-4F9D-9426-6C9C4A24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8692-F476-4AB8-B871-661412F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B279-C647-4447-848B-31ADEF9B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0BF1-50A8-4BF5-9938-5F6487A5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13C-9C0E-46D4-A9F5-C95101C7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03F0-A91F-4042-B4B1-17E9D149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4BCF-A0CF-41C1-ACCA-A2D78A93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7E1E-37EC-4B98-85C2-1581550B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A0A6-C4B4-4839-BB8C-4C12760B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03AF-D5D4-40B4-8AA9-5E703C20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D0B-20D1-48EB-AE8F-365507E6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1D5-601C-4CBC-8EDE-39DF3CE9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848-168A-49D4-989E-CE00E2B1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A82-FF97-4434-8626-93D2E61C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E67-A479-462F-9334-5DE4F7BA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01E-016B-4567-96E6-D4B5AB9C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C7C-524C-477E-86A6-16D780F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892440" cy="6845400"/>
            <a:chOff x="0" y="1440"/>
            <a:chExt cx="9892440" cy="6845400"/>
          </a:xfrm>
        </p:grpSpPr>
        <p:sp>
          <p:nvSpPr>
            <p:cNvPr id="1" name="Freeform 3"/>
            <p:cNvSpPr/>
            <p:nvPr/>
          </p:nvSpPr>
          <p:spPr>
            <a:xfrm>
              <a:off x="5836320" y="1585800"/>
              <a:ext cx="40561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911052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C62C-113E-4AEC-A53E-C8E7A7EC6B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120680" y="1552680"/>
            <a:ext cx="11026440" cy="5305320"/>
            <a:chOff x="-1120680" y="1552680"/>
            <a:chExt cx="11026440" cy="5305320"/>
          </a:xfrm>
        </p:grpSpPr>
        <p:sp>
          <p:nvSpPr>
            <p:cNvPr id="45" name="Freeform 3"/>
            <p:cNvSpPr/>
            <p:nvPr/>
          </p:nvSpPr>
          <p:spPr>
            <a:xfrm>
              <a:off x="3544560" y="2709720"/>
              <a:ext cx="636120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120680" y="1552680"/>
              <a:ext cx="728640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665A-AE74-4CD1-9E07-5D57A13C6C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5120" y="1066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SOCIACIONES CIVILES Y FUND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50960" y="3213000"/>
            <a:ext cx="693432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ASPECTOS IMPOSITIVO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SEJO PROF. CS. ECONÓ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UDAD AUTÓNOMA DE BUENOS 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UENOS AIRES – 27/11/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ALISIS DE LA RG 2681 Reconocimiento de la Exen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Solicitud del reconocimiento exentivo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Reconocimiento y denegación de exenció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Pérdida del reconocimiento y renovación del certificado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Acreditación frente a tercero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Incumplimientos: efectos y sancion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ÁLISIS DE LA RG 2681 Régimen de Información de Dona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2680" y="2276280"/>
            <a:ext cx="84200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Procedimientos a observar por donantes y donatari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Empleador como informan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No obligatoriedad de informar ciertas donaciones periódicas o eventua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Carácter de las donaciones a ser informadas por las donataria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INFORMACIÓN DE LAS DONACIONES EFECTUD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DONANT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Ganancias Personas Físicas – Bienes Personales Versión 13.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Ganancias Personas Jurídicas – Versión 11.0-Release 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INFORMACIÓN DE LAS DONACIONES RECIBID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ENTIDAD DONATARI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Ganancias Personas Jurídicas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rsión 11.0-Release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INFORMACIÓN DE LAS DONACIONES EFECTUADAS Y RECIBID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2680" y="2492280"/>
            <a:ext cx="84200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MPLE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Donaciones Empleadores – Versión 2.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TIDADES RELIGIOSAS Y OTRAS EXENTAS DE PRESENTAR DDJJ DE GANA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Donaciones en dinero y en especie-Donantes y Donatarios – Versión 2.0-Release 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SOLUCIÓN GENERAL 2681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CLARACIONES JUR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mpuesto a las Ganan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mpuesto a la Ganancia Mínima Presu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DIFERENCIAS IMPORTANTES ENTRE LAS RG 2681 (actual) Y LA 1815 (reemplazada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844280"/>
            <a:ext cx="84200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emplaza el Registro por un Certificado de Ex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Gestión vía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novación auto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torgamiento del Certificado sin fiscalización prev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ramitación simplificada para algunas ent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Vigencia por un 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DOCUMENTACIÓN RESPALDATOR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Resolución General 1415 y modificatori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Utilización de Recibos y/o Factur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onaciones por tarjeta de crédito y débito automático banca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REQUISITOS PARA EL RECONOCIMIENTO EXENTIV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TIDAD DE BIEN COMÚ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OSEER PERSONERÍA JURÍDICA OTORGADA POR LOS ORGANISMOS DE CONTROL PERTINENT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S GANANCIAS Y EL PATRIMONIO SOCIAL SE DEBEN DESTINAR A LOS FINES DE SU CREACIÓN Y EN NINGÚN CASO DISTRIBUIRSE, DIRECTA O INDIRECTAMENTE ENTRE LOS SOC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EDACTAR LA CLÁUSULA DE DISOLUCIÓN ADECUADAM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REQUISITOS PARA EL RECONOCIMIENTO EXENTIV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RECURSOS NO PUEDEN OBTENERSE DE LA EXPLOTACIÓN DE ESPECTÁCULOS PÚBLICOS, JUEGOS DE AZAR, CARRERAS DE CABA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IERTOS CASOS NO PUEDEN REALIZAR ACTIVIDADES COMERCIALES Y/O INDUST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PUEDEN ABONAR HONORARIOS A LOS MIEMBROS DIRECTIVOS, EJECUTIVOS Y DE CONTRALOR POR ENCIMA DE CIERTA 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IMPUESTO A LAS GANANCI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2680" y="2361960"/>
            <a:ext cx="8420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UJETOS DEL IMPUE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ASA APLIC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BERES FOR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REQUISITOS PARA EL RECONOCIMIENTO EXENTIV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LIGACIÓN DE SOLICITA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SCRIBIRSE Y OBTENER LA C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ACREDITARSE LA EXISTENCIA Y VERACIDAD DEL DOMICILIO FISCAL DENUNCI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SOLICITARSE EL CERTIFICADO DE EX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REQUISITOS PARA EL RECONOCIMIENTO EXENTIV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LIGACIONES DE RET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LIGACIONES DE INFO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MPLIR CON PAUTAS VINCULADAS CON LA DOCUMENTACIÓN RESPALDATORIA Y EL REGISTRO DE LAS OPE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ETAR EL PRINCIPIO DE LA REALIDAD ECONÓ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LÁUSULA DE DISOLU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2680" y="1700280"/>
            <a:ext cx="84200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vez realizados todos los bienes y pagadas todas las deudas, el remanente se destinará a una Institución de bien común sin fines de lucro con personería jurídica, domiciliada en el país, con exención vigente otorgada y reconocida por la Administración Federal de Ingresos Públicos – Dirección General Impositiva o al Estado Nacional, Provincial o Municip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5120" y="1066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SOCIACIONES CIVILES Y FUND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650960" y="3213000"/>
            <a:ext cx="693432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PREVENCIÓN LAVADO DE DINERO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SEJO PROF. CS. ECONÓ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UDAD AUTÓNOMA DE BUENOS 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UENOS AIRES – 27/11/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7320" y="3045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SOLUCIÓN UIF 30/2011</a:t>
            </a:r>
            <a:br>
              <a:rPr sz="4000"/>
            </a:b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PRINCIPALES ASPECTOS DE LA NORM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7320" y="1773360"/>
            <a:ext cx="94107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BJE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Establecer las medidas y procedimientos que los sujetos obligados, conforme se define en el art. 2 de la presente, deberán observar para prevenir, detectar y reportar los hechos, actos, operaciones u omisiones que puedan provenir de la comisión de los delitos de lavado de activos y financiación del terrorismo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SOLUCIÓN UIF 30/2011 ANÁLISIS DEL ARTÍCULO 2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7320" y="2204640"/>
            <a:ext cx="94107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) Sujetos oblig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)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3) Personas expuestas polític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4) Reportes sistemá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5) Operaciones inusu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6) Operaciones sospecho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7) Propietario/benefic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SOLUCIÓN UIF 30/2011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POLÍTICAS DE PREVEN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0120" y="1371240"/>
            <a:ext cx="932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) Manual de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2) Oficial de Cumpl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3) Capacitación del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4) Implementación de herramientas tecnológ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5) Auditorí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6) Registro del análisis y gestión de riesgo de las operaciones sospecho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2680" y="68580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RESOLUCIÓN UIF 30/2011</a:t>
            </a:r>
            <a:br>
              <a:rPr sz="44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POLÍTICA DE IDENTIFICA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0240" y="1844280"/>
            <a:ext cx="8420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ERSONAS FÍSICAS, PERSONAS JURÍDICAS Y ORGANISMOS PÚBL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atos a Requerirse / Paráme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naciones mayores a $ 50.000.- mens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naciones mayores a $ 100.000.- mens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naciones mayores a $ 200.000.- mens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RESOLUCIÓN UIF 30/2011</a:t>
            </a:r>
            <a:br>
              <a:rPr sz="4400"/>
            </a:b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ALGUNOS TEMAS IMPORTANT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42680" y="2205000"/>
            <a:ext cx="84200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ERVACIÓN DE LA DOCU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UAL DE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Í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GRAMA DE CAPACI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3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INSPECCIÓN GENERAL DE JUSTICIA</a:t>
            </a:r>
            <a:br>
              <a:rPr sz="36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RESOLUCIONES VINCULADAS A LA PREVENCIÓN DEL LAVADO DE DINERO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42680" y="2205000"/>
            <a:ext cx="84200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OLUCIÓN GENERAL I.G.J. 2/20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OLUCIÓN GENERAL I.G.J. 4/20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OLUCIÓN GENERAL I.G.J. 6/20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OLUCIÓN GENERAL I.G.J. 9/20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3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EXEN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OBJETIVAS – SUBJETIVAS - MIX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RT. 20 – Inc. 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INCIPIO DE REALIDAD ECONO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ALISIS DEL ART. 20 INC. F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84280" y="1844280"/>
            <a:ext cx="87501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DICIO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a) Objeto: asistencia soc., salud pública, caridad, benefic., educación, científicas (enunciativo y no taxativ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b) las ganancias y el patrimonio social se destinen a los fines de su cre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c) en ningún caso se distribuyan, directa o indirectamente, entre los soc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19000" y="4508640"/>
            <a:ext cx="79567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XCLUSIO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a) entidades que obtienen sus recursos, en todo o en parte, de  la explotación de espectáculos públicos, juegos de azar, carreras de caballos y actividades simila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ÁLISIS DEL ART. 20 INC. F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(Continuación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APLIC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a) fundaciones y asociaciones o entidades civiles de carácter gremial que desarrollen actividades industriales y/o comer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b) Abonen remuneraciones a elencos directivos, ejecutivos y de contralor por encima de determinada suma (Ley 24475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c) Entidades que tengan vedado el pago de esas remuneraciones (cualquiera sea su mon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CONOCIMIENTO DE LA EXENC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0120" y="1981080"/>
            <a:ext cx="92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OBLIGACION DE SOLICITAR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ERTIFICADO DE EXENCIÓN EN EL IMPUESTO A LAS GANA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 DE NO SOLICITAR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BLIGACIONES DE RETENE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2680" y="2285640"/>
            <a:ext cx="8420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GIMEN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BRE SUEL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ENEFICIARIOS DEL EXTER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ROL DE MONOTRIBUT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S DE LIMPIEZA, SEGURIDAD Y RECOLECCIÓN DE RESIDUOS (IV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BLIGACIONES DE INFORMA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TENCIONES EFECTU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OSICION DEL CUERPO DIR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ONACIONES EN DINERO Y EN ESPECIE RECIBIDAS Y ENTREG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ESENTACION DE DECLARACIONES JUR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ESENTACIÓN DE BALANCES GENERALES EN FORMATO 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4 Marcador de pie de página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r. PEDRO M. GECIK pedrogecik@fibertel.com.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TRAS OBLIGACIONES FORMAL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2680" y="2438280"/>
            <a:ext cx="8420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MISION DE COMPROB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GISTRACION DE OPER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21:33:15Z</dcterms:created>
  <dc:creator>Pedro</dc:creator>
  <dc:description/>
  <dc:language>en-US</dc:language>
  <cp:lastModifiedBy>Pedro</cp:lastModifiedBy>
  <dcterms:modified xsi:type="dcterms:W3CDTF">2012-11-24T23:44:02Z</dcterms:modified>
  <cp:revision>245</cp:revision>
  <dc:subject/>
  <dc:title>ASOCIACIONES CIVILES Y FUNDACIONES</dc:title>
</cp:coreProperties>
</file>